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12.gif" ContentType="image/gif"/>
  <Override PartName="/ppt/media/image3.jpeg" ContentType="image/jpeg"/>
  <Override PartName="/ppt/media/image1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4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35A9-4B01-4818-A151-E781C58CD6E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nveg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esso Universale all'e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ete e multimedia: standard, normative ed applicazioni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Organizzato da ISIMM - IWA - Master in storia e storiografia multimediale di Roma 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artedì 13 dicembre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uogo: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OMA - Camera dei Deputati - Palazzo Marini - Sala delle Colonne - Via Poli 19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Orario: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9.00 - 14.00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ttp://educational.iwa-italy.org/evento.asp?id=3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oberto Ellero 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llero@webaccessibile.org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ww.robertoelle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5A49-4743-4695-9C8A-FC8075BC4B2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AFD6-1146-434F-A65D-C1CAD57882E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88B8-E98B-4E13-803E-80A4EBA61D5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E5FF-52A7-44FA-8093-917DC82887F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8EB4-7D6C-48DF-9D14-713360A24CD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82D0-E45F-4854-BE71-28316683C74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nveg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esso Universale all'e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ete e multimedia: standard, normative ed applicazioni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Organizzato da ISIMM - IWA - Master in storia e storiografia multimediale di Roma 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artedì 13 dicembre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uogo: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OMA - Camera dei Deputati - Palazzo Marini - Sala delle Colonne - Via Poli 19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Orario: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9.00 - 14.00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ttp://educational.iwa-italy.org/evento.asp?id=3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oberto Ellero 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llero@webaccessibile.org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ww.robertoelle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nveg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esso Universale all'e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ete e multimedia: standard, normative ed applicazioni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Organizzato da ISIMM - IWA - Master in storia e storiografia multimediale di Roma 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artedì 13 dicembre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uogo: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OMA - Camera dei Deputati - Palazzo Marini - Sala delle Colonne - Via Poli 19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Orario: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9.00 - 14.00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ttp://educational.iwa-italy.org/evento.asp?id=3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oberto Ellero 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llero@webaccessibile.org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ww.robertoelle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nveg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esso Universale all'e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ete e multimedia: standard, normative ed applicazioni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Organizzato da ISIMM - IWA - Master in storia e storiografia multimediale di Roma 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artedì 13 dicembre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uogo: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OMA - Camera dei Deputati - Palazzo Marini - Sala delle Colonne - Via Poli 19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Orario: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9.00 - 14.00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ttp://educational.iwa-italy.org/evento.asp?id=3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oberto Ellero 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llero@webaccessibile.org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ww.robertoelle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534-1FAB-4BD1-A401-F989B237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987-DFE0-4745-8B18-51418170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7C4-6E1B-4543-827B-BB006F3D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7B1-2E4B-4093-983A-349E316D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B553-B59D-4A8E-9647-4F225321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B627-F9DD-44B6-8290-711EB4A6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EFD7-6252-438B-8DA1-CF36278E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CB31-D99D-461E-AC76-0225148D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4BFB-B1C7-4911-97E6-6D34EBB0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9ADE-4B3A-4D12-8F64-8FB8A9F8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907F-2FB5-4204-99FA-024B58CF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537-C214-4AEC-A589-1625ECD0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9116-167D-4932-AF2C-61307096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2FB3-1137-47A8-B5A7-177364E7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961B-317A-4D35-AC05-E3D6DBD9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7C8E-8E6E-473D-9097-DA9A4A32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D256-6666-4A45-AC6E-D5C6ACA1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D3A63-6D32-419A-9460-C2D983BD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6787A-B07F-40BC-BF28-6FD7E6B6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FEF34-602A-45D3-9AE9-85BAC5C3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C06B2-BA0C-4BC3-8038-B85BF703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149C6-2B7A-4B2A-ACF3-E089D485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038-FEA4-46E0-9DEF-E9DE2B13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8C16F-FAD7-47CD-ABCA-46155FA8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1C1F5-E679-49BB-8508-8D7E48DD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16E4A-80E4-48E7-80AB-6FCB6A9E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7DBD9-C134-45CC-BF49-2FCF7DEB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B295E-87D2-4332-B23E-2AB490C8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8EA86-EF55-4E80-9567-0463C20C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30CA3-653D-4E79-A33D-A8742464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040B9-F7E7-4E11-8AED-CD09CED7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AFF21-18AB-40A2-BA00-97D535C2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6CA76-D767-4148-8C73-B0604B50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9C8-F81F-479E-9E2F-AAEFD059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05669-EC9D-42E7-BB7E-80B727F0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B15F1-4C11-4E54-AE41-098C2E48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BCEDC-7884-4348-9ED9-0215CEAB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5661E-DE39-43E1-A7BE-58C52270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B7BC3-37E4-4D2F-9D53-885E219A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BE5C8-5A73-4C03-BF62-0A5D4C50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6F40E-9E5E-41E1-AFC8-04060BDF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0BC71-BA94-4988-B822-CF53239B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D82EF-06C2-4C49-8A08-6E3AF042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375F72-CF89-455E-AC84-B6CFE3386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878-F198-4572-8ED2-F4A08736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626084-77E7-4F76-9BDD-40606C28022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02BC6D-A5BD-444D-8006-2CC17E42A6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D7AB00-C59B-4599-940D-5413E6BFC77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7DAFD5-FCF7-40A2-AA72-8E395147D06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E5759D-60E3-4A28-92BC-822A8660214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FBB613-38D2-44DD-AE0D-4A4AFE4A052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E37DDB-8722-4768-89E4-8274744AE9A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2B7CDC-713C-4AA5-9F97-C35A4B7584C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1D0483-4E8E-42DE-B7BF-E627ECAD042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3D0BDD-12AA-4638-8ACA-3C30AA54E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DF6-8A25-45BE-B7C2-C31F574F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679E56-51DF-4443-B768-1A13BBC7846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B64-D16A-4031-ACAE-56443941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62A-87D4-4F65-A4BC-4C0D742C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EB5-7C26-4AED-9EEB-A58D2401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0" y="-360"/>
            <a:ext cx="395280" cy="260280"/>
          </a:xfrm>
          <a:prstGeom prst="rect">
            <a:avLst/>
          </a:prstGeom>
          <a:solidFill>
            <a:srgbClr val="746beb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223D-B0C2-465A-AFE9-4A4FF666E314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2E3A-1607-4DAC-BD80-76093ED1EFC0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AA80-339E-4AFC-B23E-495A83B0A8C0}" type="slidenum"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BDA5-F30B-47F8-BAD4-DBBDCDC7E0E8}" type="slidenum">
              <a:rPr b="0" lang="it-IT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ldNum" idx="1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1A97-10B5-4A86-80C5-3FDDDC0D27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0" y="1112760"/>
            <a:ext cx="7523280" cy="49118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Logo IWA-ITALY"/>
          <p:cNvPicPr/>
          <p:nvPr/>
        </p:nvPicPr>
        <p:blipFill>
          <a:blip r:embed="rId4"/>
          <a:stretch/>
        </p:blipFill>
        <p:spPr>
          <a:xfrm>
            <a:off x="7386480" y="5929200"/>
            <a:ext cx="1757520" cy="9288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3"/>
          <p:cNvSpPr>
            <a:spLocks noGrp="1"/>
          </p:cNvSpPr>
          <p:nvPr>
            <p:ph type="body"/>
          </p:nvPr>
        </p:nvSpPr>
        <p:spPr>
          <a:xfrm>
            <a:off x="177840" y="1652400"/>
            <a:ext cx="72770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9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34" name="" descr="Logo IWA-ITALY"/>
          <p:cNvPicPr/>
          <p:nvPr/>
        </p:nvPicPr>
        <p:blipFill>
          <a:blip r:embed="rId3"/>
          <a:stretch/>
        </p:blipFill>
        <p:spPr>
          <a:xfrm>
            <a:off x="0" y="5568840"/>
            <a:ext cx="2444760" cy="12891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550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55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robertoellero.it/" TargetMode="External"/><Relationship Id="rId3" Type="http://schemas.openxmlformats.org/officeDocument/2006/relationships/hyperlink" Target="http://www.w3.org/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mailto:rellero@webaccessibile.org" TargetMode="External"/><Relationship Id="rId3" Type="http://schemas.openxmlformats.org/officeDocument/2006/relationships/hyperlink" Target="mailto:rellero@webaccessibile.org" TargetMode="External"/><Relationship Id="rId4" Type="http://schemas.openxmlformats.org/officeDocument/2006/relationships/hyperlink" Target="mailto:rellero@webaccessibile.org" TargetMode="External"/><Relationship Id="rId5" Type="http://schemas.openxmlformats.org/officeDocument/2006/relationships/hyperlink" Target="mailto:rellero@webaccessibile.org" TargetMode="External"/><Relationship Id="rId6" Type="http://schemas.openxmlformats.org/officeDocument/2006/relationships/hyperlink" Target="mailto:rellero@webaccessibile.org" TargetMode="External"/><Relationship Id="rId7" Type="http://schemas.openxmlformats.org/officeDocument/2006/relationships/hyperlink" Target="http://www.robertoellero.it/" TargetMode="External"/><Relationship Id="rId8" Type="http://schemas.openxmlformats.org/officeDocument/2006/relationships/hyperlink" Target="http://www.robertoellero.it/" TargetMode="External"/><Relationship Id="rId9" Type="http://schemas.openxmlformats.org/officeDocument/2006/relationships/hyperlink" Target="http://www.robertoellero.it/" TargetMode="External"/><Relationship Id="rId10" Type="http://schemas.openxmlformats.org/officeDocument/2006/relationships/hyperlink" Target="http://www.robertoellero.it/" TargetMode="External"/><Relationship Id="rId11" Type="http://schemas.openxmlformats.org/officeDocument/2006/relationships/hyperlink" Target="mailto:rellero@webaccessibile.org" TargetMode="External"/><Relationship Id="rId12" Type="http://schemas.openxmlformats.org/officeDocument/2006/relationships/hyperlink" Target="mailto:rellero@webaccessibile.org" TargetMode="External"/><Relationship Id="rId13" Type="http://schemas.openxmlformats.org/officeDocument/2006/relationships/hyperlink" Target="mailto:rellero@webaccessibile.org" TargetMode="External"/><Relationship Id="rId14" Type="http://schemas.openxmlformats.org/officeDocument/2006/relationships/hyperlink" Target="mailto:rellero@webaccessibile.org" TargetMode="External"/><Relationship Id="rId15" Type="http://schemas.openxmlformats.org/officeDocument/2006/relationships/hyperlink" Target="mailto:rellero@webaccessibile.org" TargetMode="External"/><Relationship Id="rId16" Type="http://schemas.openxmlformats.org/officeDocument/2006/relationships/slideLayout" Target="../slideLayouts/slideLayout62.xml"/><Relationship Id="rId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verno.it/Presidenza/web/circ13mar2001_FP.html" TargetMode="External"/><Relationship Id="rId2" Type="http://schemas.openxmlformats.org/officeDocument/2006/relationships/hyperlink" Target="http://www.governo.it/Presidenza/web/circ13mar2001_FP.html" TargetMode="Externa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ubbliaccesso.it/normative/DM080705.htm" TargetMode="Externa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ib.it/aib/cwai/WAI-trad.htm#gl-provide-equivalents" TargetMode="External"/><Relationship Id="rId2" Type="http://schemas.openxmlformats.org/officeDocument/2006/relationships/hyperlink" Target="http://www.section508.gov/index.cfm?FuseAction=Content&amp;ID=12#Web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74680" y="62028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900" spc="-1" strike="noStrike">
                <a:solidFill>
                  <a:srgbClr val="000000"/>
                </a:solidFill>
                <a:latin typeface="Century Gothic"/>
              </a:rPr>
              <a:t>L'accessibilità dei contenuti multimediali</a:t>
            </a:r>
            <a:r>
              <a:rPr b="1" lang="it-IT" sz="49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4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"/>
          <p:cNvSpPr/>
          <p:nvPr/>
        </p:nvSpPr>
        <p:spPr>
          <a:xfrm>
            <a:off x="2031840" y="2809800"/>
            <a:ext cx="518976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627280" y="5229360"/>
            <a:ext cx="651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entury Gothic"/>
              </a:rPr>
              <a:t>Roberto Eller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entury Gothic"/>
              </a:rPr>
              <a:t>rellero@webaccessibile.or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99ff"/>
                </a:solidFill>
                <a:uFillTx/>
                <a:latin typeface="Century Gothic"/>
                <a:hlinkClick r:id="rId2"/>
              </a:rPr>
              <a:t>www.robertoellero.it</a:t>
            </a:r>
            <a:r>
              <a:rPr b="1" lang="en-US" sz="2400" spc="-1" strike="noStrike">
                <a:solidFill>
                  <a:srgbClr val="eaeaea"/>
                </a:solidFill>
                <a:latin typeface="Century Gothic"/>
              </a:rPr>
              <a:t>          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1" lang="it-IT" sz="2000" spc="-1" strike="noStrike">
                <a:solidFill>
                  <a:srgbClr val="eaeaea"/>
                </a:solidFill>
                <a:latin typeface="Trebuchet MS"/>
              </a:rPr>
              <a:t>Roma 13/12/2005</a:t>
            </a:r>
            <a:r>
              <a:rPr b="0" lang="it-IT" sz="2000" spc="-1" strike="noStrike">
                <a:solidFill>
                  <a:srgbClr val="eaeaea"/>
                </a:solidFill>
                <a:latin typeface="Trebuchet MS"/>
              </a:rPr>
              <a:t> </a:t>
            </a:r>
            <a:r>
              <a:rPr b="1" lang="it-IT" sz="2000" spc="-1" strike="noStrike">
                <a:solidFill>
                  <a:srgbClr val="eaeaea"/>
                </a:solidFill>
                <a:latin typeface="Trebuchet MS"/>
              </a:rPr>
              <a:t>Accesso Universale all'eCont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82" name="" descr="Logo W3C Memb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19960" y="0"/>
            <a:ext cx="8240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6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284c6a"/>
                </a:solidFill>
                <a:latin typeface="Trebuchet MS"/>
              </a:rPr>
              <a:t>Abbiamo bisogno </a:t>
            </a:r>
            <a:br>
              <a:rPr sz="4000"/>
            </a:br>
            <a:r>
              <a:rPr b="0" lang="it-IT" sz="4000" spc="-1" strike="noStrike">
                <a:solidFill>
                  <a:srgbClr val="284c6a"/>
                </a:solidFill>
                <a:latin typeface="Trebuchet MS"/>
              </a:rPr>
              <a:t>di questi elementi: 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80773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un documento multimediale;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la trascrizione del testo della traccia audio;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la possibilità di registrare del parlato;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un editor specializzato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6840" y="1557360"/>
            <a:ext cx="8077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Un </a:t>
            </a:r>
            <a:r>
              <a:rPr b="0" lang="it-IT" sz="2800" spc="-1" strike="noStrike">
                <a:solidFill>
                  <a:srgbClr val="ff0000"/>
                </a:solidFill>
                <a:latin typeface="Trebuchet MS"/>
              </a:rPr>
              <a:t>documento SMIL/SAMI</a:t>
            </a: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 garantisce la sincronizzazione tra la sottotitolazione  e il contenuto del filmato multimediale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Il </a:t>
            </a:r>
            <a:r>
              <a:rPr b="0" lang="it-IT" sz="2800" spc="-1" strike="noStrike">
                <a:solidFill>
                  <a:srgbClr val="ff0000"/>
                </a:solidFill>
                <a:latin typeface="Trebuchet MS"/>
              </a:rPr>
              <a:t>codice di marcatura</a:t>
            </a:r>
            <a:r>
              <a:rPr b="0" lang="it-IT" sz="2800" spc="-1" strike="noStrike">
                <a:solidFill>
                  <a:srgbClr val="284c6a"/>
                </a:solidFill>
                <a:latin typeface="Trebuchet MS"/>
              </a:rPr>
              <a:t> per l’inclusione dell’elemento multimediale deve rispettare il Requisito 1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2665440" cy="3672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284c6a"/>
                </a:solidFill>
                <a:latin typeface="Trebuchet MS"/>
              </a:rPr>
              <a:t>SMIL</a:t>
            </a:r>
            <a:r>
              <a:rPr b="0" lang="it-IT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&lt;video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&lt;audio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84c6a"/>
                </a:solidFill>
                <a:latin typeface="Trebuchet MS"/>
              </a:rPr>
              <a:t>&lt;textstream</a:t>
            </a:r>
            <a:r>
              <a:rPr b="0" lang="it-IT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1584360" cy="13431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2124000" y="1916280"/>
            <a:ext cx="849240" cy="9586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 flipV="1">
            <a:off x="2124000" y="2205000"/>
            <a:ext cx="23767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050920" y="3141360"/>
            <a:ext cx="446580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32000" y="5013360"/>
            <a:ext cx="2592360" cy="2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6300720" y="4653000"/>
            <a:ext cx="1646280" cy="12351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6877080" y="1916280"/>
            <a:ext cx="17143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5400" y="1773000"/>
            <a:ext cx="822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Il sistema di </a:t>
            </a:r>
            <a:r>
              <a:rPr b="1" lang="it-IT" sz="2800" spc="-1" strike="noStrike">
                <a:solidFill>
                  <a:srgbClr val="ccff33"/>
                </a:solidFill>
                <a:latin typeface="Arial"/>
              </a:rPr>
              <a:t>Programmi audiodescritti</a:t>
            </a: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 della Rai consente al pubblico non vedente di poter seguire sui canali onde medie della radiofonia alcuni programmi televisivi di particolare interesse: v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oci professionali accompagnano lo svolgersi dei programmi televisivi, integrandone lo sviluppo con interventi mirati in voce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www.segretariatosociale.rai.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4640400" cy="9716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AUDIODESCRIZIONI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7318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1731960" y="549360"/>
            <a:ext cx="55040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11280" y="-27000"/>
            <a:ext cx="7993080" cy="69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20720" y="0"/>
            <a:ext cx="766764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154160" y="0"/>
            <a:ext cx="665784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836720" y="404640"/>
            <a:ext cx="5040360" cy="37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064360" cy="64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5400" y="115920"/>
            <a:ext cx="82263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Riferimenti tecn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0920" y="1197000"/>
            <a:ext cx="86421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33"/>
                </a:solidFill>
                <a:latin typeface="Arial"/>
                <a:ea typeface="Arial"/>
              </a:rPr>
              <a:t>Web Content Accessibility Guidelines 1.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W3C Recommendation 5-May-199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Arial"/>
                <a:ea typeface="Arial"/>
              </a:rPr>
              <a:t>Punti di controllo 1.3 [Priorità 1], 1.4 [Priorità 1], 7.1 [Priorità 1], 8.1 [Priorità 1 se importante, altrimenti Priorità 2], 14.2 [Priorità 3]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33"/>
                </a:solidFill>
                <a:latin typeface="Arial"/>
                <a:ea typeface="Arial"/>
              </a:rPr>
              <a:t>NCAM</a:t>
            </a:r>
            <a:br>
              <a:rPr sz="3200"/>
            </a:br>
            <a:r>
              <a:rPr b="0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 National Center for Accessible Media (NCAM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Trebuchet MS"/>
              </a:rPr>
              <a:t>http://ncam.wgbh.or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Definizione di multime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4005360"/>
            <a:ext cx="8496360" cy="2448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2f"/>
              </a:gs>
              <a:gs pos="50000">
                <a:srgbClr val="00cc66"/>
              </a:gs>
              <a:gs pos="100000">
                <a:srgbClr val="005e2f"/>
              </a:gs>
            </a:gsLst>
            <a:lin ang="5400000"/>
          </a:gradFill>
          <a:ln w="28440">
            <a:solidFill>
              <a:srgbClr val="eaeaea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Arial"/>
                <a:ea typeface="Arial"/>
              </a:rPr>
              <a:t>Ogni medium ha il proprio ambito di applicazione</a:t>
            </a:r>
            <a:br>
              <a:rPr sz="2400"/>
            </a:br>
            <a:r>
              <a:rPr b="1" lang="it-IT" sz="2400" spc="-1" strike="noStrike">
                <a:solidFill>
                  <a:srgbClr val="eaeaea"/>
                </a:solidFill>
                <a:latin typeface="Arial"/>
                <a:ea typeface="Arial"/>
              </a:rPr>
              <a:t> per il quale è adatto, per tutto ciò che esula da tale</a:t>
            </a:r>
            <a:br>
              <a:rPr sz="2400"/>
            </a:br>
            <a:r>
              <a:rPr b="1" lang="it-IT" sz="2400" spc="-1" strike="noStrike">
                <a:solidFill>
                  <a:srgbClr val="eaeaea"/>
                </a:solidFill>
                <a:latin typeface="Arial"/>
                <a:ea typeface="Arial"/>
              </a:rPr>
              <a:t> ambito è o poco efficace o del tutto inadegu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8360" y="1268280"/>
            <a:ext cx="8353440" cy="237492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e5275"/>
              </a:gs>
              <a:gs pos="50000">
                <a:srgbClr val="65b2ff"/>
              </a:gs>
              <a:gs pos="100000">
                <a:srgbClr val="2e5275"/>
              </a:gs>
            </a:gsLst>
            <a:lin ang="5400000"/>
          </a:gradFill>
          <a:ln w="28440">
            <a:solidFill>
              <a:srgbClr val="eaeaea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Arial"/>
                <a:ea typeface="Arial"/>
              </a:rPr>
              <a:t>La multimedialità indica la compresenza e </a:t>
            </a:r>
            <a:br>
              <a:rPr sz="2400"/>
            </a:br>
            <a:r>
              <a:rPr b="1" lang="it-IT" sz="2400" spc="-1" strike="noStrike">
                <a:solidFill>
                  <a:srgbClr val="eaeaea"/>
                </a:solidFill>
                <a:latin typeface="Arial"/>
                <a:ea typeface="Arial"/>
              </a:rPr>
              <a:t>l'interazione di diversi linguaggi all’interno d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Arial"/>
                <a:ea typeface="Arial"/>
              </a:rPr>
              <a:t>un oggetto o di una tecnologia di comunicazi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23640" y="44280"/>
            <a:ext cx="822636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000000"/>
                </a:solidFill>
                <a:latin typeface="Century Gothic"/>
              </a:rPr>
              <a:t>Contatti</a:t>
            </a:r>
            <a:endParaRPr b="1" lang="en-US" sz="4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-360" y="936360"/>
            <a:ext cx="845964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 u="sng">
                <a:solidFill>
                  <a:srgbClr val="6699ff"/>
                </a:solidFill>
                <a:uFillTx/>
                <a:latin typeface="Century Gothic"/>
                <a:hlinkClick r:id="rId2"/>
              </a:rPr>
              <a:t>rellero</a:t>
            </a:r>
            <a:r>
              <a:rPr b="0" lang="it-IT" sz="4800" spc="-1" strike="noStrike" u="sng">
                <a:solidFill>
                  <a:srgbClr val="6699ff"/>
                </a:solidFill>
                <a:uFillTx/>
                <a:latin typeface="Century Gothic"/>
                <a:hlinkClick r:id="rId3"/>
              </a:rPr>
              <a:t>@</a:t>
            </a:r>
            <a:r>
              <a:rPr b="0" lang="it-IT" sz="4800" spc="-1" strike="noStrike" u="sng">
                <a:solidFill>
                  <a:srgbClr val="6699ff"/>
                </a:solidFill>
                <a:uFillTx/>
                <a:latin typeface="Century Gothic"/>
                <a:hlinkClick r:id="rId4"/>
              </a:rPr>
              <a:t>webaccessibile</a:t>
            </a:r>
            <a:r>
              <a:rPr b="0" lang="it-IT" sz="4800" spc="-1" strike="noStrike" u="sng">
                <a:solidFill>
                  <a:srgbClr val="6699ff"/>
                </a:solidFill>
                <a:uFillTx/>
                <a:latin typeface="Century Gothic"/>
                <a:hlinkClick r:id="rId5"/>
              </a:rPr>
              <a:t>.</a:t>
            </a:r>
            <a:r>
              <a:rPr b="0" lang="it-IT" sz="4800" spc="-1" strike="noStrike" u="sng">
                <a:solidFill>
                  <a:srgbClr val="6699ff"/>
                </a:solidFill>
                <a:uFillTx/>
                <a:latin typeface="Century Gothic"/>
                <a:hlinkClick r:id="rId6"/>
              </a:rPr>
              <a:t>org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it-IT" sz="4800" spc="-1" strike="noStrike" u="sng">
                <a:solidFill>
                  <a:srgbClr val="6699ff"/>
                </a:solidFill>
                <a:uFillTx/>
                <a:latin typeface="Century Gothic"/>
                <a:hlinkClick r:id="rId7"/>
              </a:rPr>
              <a:t>www.</a:t>
            </a:r>
            <a:r>
              <a:rPr b="0" lang="it-IT" sz="4800" spc="-1" strike="noStrike" u="sng">
                <a:solidFill>
                  <a:srgbClr val="6699ff"/>
                </a:solidFill>
                <a:uFillTx/>
                <a:latin typeface="Century Gothic"/>
                <a:hlinkClick r:id="rId8"/>
              </a:rPr>
              <a:t>robertoellero</a:t>
            </a:r>
            <a:r>
              <a:rPr b="0" lang="it-IT" sz="4800" spc="-1" strike="noStrike" u="sng">
                <a:solidFill>
                  <a:srgbClr val="6699ff"/>
                </a:solidFill>
                <a:uFillTx/>
                <a:latin typeface="Century Gothic"/>
                <a:hlinkClick r:id="rId9"/>
              </a:rPr>
              <a:t>.</a:t>
            </a:r>
            <a:r>
              <a:rPr b="0" lang="it-IT" sz="4800" spc="-1" strike="noStrike" u="sng">
                <a:solidFill>
                  <a:srgbClr val="6699ff"/>
                </a:solidFill>
                <a:uFillTx/>
                <a:latin typeface="Century Gothic"/>
                <a:hlinkClick r:id="rId10"/>
              </a:rPr>
              <a:t>it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"/>
          <p:cNvSpPr/>
          <p:nvPr/>
        </p:nvSpPr>
        <p:spPr>
          <a:xfrm>
            <a:off x="2484360" y="5608800"/>
            <a:ext cx="6659640" cy="12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aeaea"/>
                </a:solidFill>
                <a:latin typeface="Arial"/>
                <a:ea typeface="Arial"/>
              </a:rPr>
              <a:t>Roberto Ellero </a:t>
            </a:r>
            <a:br>
              <a:rPr sz="1800"/>
            </a:br>
            <a:r>
              <a:rPr b="1" lang="it-IT" sz="1500" spc="-1" strike="noStrike" u="sng">
                <a:solidFill>
                  <a:srgbClr val="6699ff"/>
                </a:solidFill>
                <a:uFillTx/>
                <a:latin typeface="Arial"/>
                <a:ea typeface="Arial"/>
                <a:hlinkClick r:id="rId11"/>
              </a:rPr>
              <a:t>rellero</a:t>
            </a:r>
            <a:r>
              <a:rPr b="1" lang="it-IT" sz="1500" spc="-1" strike="noStrike" u="sng">
                <a:solidFill>
                  <a:srgbClr val="6699ff"/>
                </a:solidFill>
                <a:uFillTx/>
                <a:latin typeface="Arial"/>
                <a:ea typeface="Arial"/>
                <a:hlinkClick r:id="rId12"/>
              </a:rPr>
              <a:t>@</a:t>
            </a:r>
            <a:r>
              <a:rPr b="1" lang="it-IT" sz="1500" spc="-1" strike="noStrike" u="sng">
                <a:solidFill>
                  <a:srgbClr val="6699ff"/>
                </a:solidFill>
                <a:uFillTx/>
                <a:latin typeface="Arial"/>
                <a:ea typeface="Arial"/>
                <a:hlinkClick r:id="rId13"/>
              </a:rPr>
              <a:t>webaccessibile</a:t>
            </a:r>
            <a:r>
              <a:rPr b="1" lang="it-IT" sz="1500" spc="-1" strike="noStrike" u="sng">
                <a:solidFill>
                  <a:srgbClr val="6699ff"/>
                </a:solidFill>
                <a:uFillTx/>
                <a:latin typeface="Arial"/>
                <a:ea typeface="Arial"/>
                <a:hlinkClick r:id="rId14"/>
              </a:rPr>
              <a:t>.</a:t>
            </a:r>
            <a:r>
              <a:rPr b="1" lang="it-IT" sz="1500" spc="-1" strike="noStrike" u="sng">
                <a:solidFill>
                  <a:srgbClr val="6699ff"/>
                </a:solidFill>
                <a:uFillTx/>
                <a:latin typeface="Arial"/>
                <a:ea typeface="Arial"/>
                <a:hlinkClick r:id="rId15"/>
              </a:rPr>
              <a:t>org</a:t>
            </a:r>
            <a:br>
              <a:rPr sz="1500"/>
            </a:br>
            <a:r>
              <a:rPr b="1" lang="it-IT" sz="15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eaeaea"/>
                </a:solidFill>
                <a:latin typeface="Trebuchet MS"/>
                <a:ea typeface="Arial"/>
              </a:rPr>
              <a:t>Roma 1</a:t>
            </a:r>
            <a:r>
              <a:rPr b="1" lang="it-IT" sz="2000" spc="-1" strike="noStrike">
                <a:solidFill>
                  <a:srgbClr val="eaeaea"/>
                </a:solidFill>
                <a:latin typeface="Trebuchet MS"/>
              </a:rPr>
              <a:t>3 dicembre 2005</a:t>
            </a:r>
            <a:r>
              <a:rPr b="0" lang="it-IT" sz="2000" spc="-1" strike="noStrike">
                <a:solidFill>
                  <a:srgbClr val="eaeaea"/>
                </a:solidFill>
                <a:latin typeface="Trebuchet MS"/>
              </a:rPr>
              <a:t> </a:t>
            </a:r>
            <a:br>
              <a:rPr sz="2000"/>
            </a:br>
            <a:r>
              <a:rPr b="1" lang="it-IT" sz="2000" spc="-1" strike="noStrike">
                <a:solidFill>
                  <a:srgbClr val="eaeaea"/>
                </a:solidFill>
                <a:latin typeface="Trebuchet MS"/>
              </a:rPr>
              <a:t>Accesso Universale all'eCont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Il multimedia nelle linee guida</a:t>
            </a:r>
            <a:br>
              <a:rPr sz="4000"/>
            </a:b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e nella normativ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5280" y="1628640"/>
            <a:ext cx="8353440" cy="4969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00000" y="1989000"/>
            <a:ext cx="73440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aeaea"/>
                </a:solidFill>
                <a:latin typeface="Arial"/>
                <a:ea typeface="Arial"/>
              </a:rPr>
              <a:t>Circolare AIP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aeaea"/>
                </a:solidFill>
                <a:latin typeface="Arial"/>
                <a:ea typeface="Arial"/>
              </a:rPr>
              <a:t>Circ. 6 settembre 2001, n. AIPA/CR/32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eaeaea"/>
                </a:solidFill>
                <a:latin typeface="Arial"/>
                <a:ea typeface="Arial"/>
              </a:rPr>
              <a:t>Criteri e strumenti per migliorare l'accessibilità dei siti web e delle applicazioni informatiche a persone disabili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aeaea"/>
                </a:solidFill>
                <a:latin typeface="Arial"/>
              </a:rPr>
              <a:t>Circolare AIPA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5280" y="1052640"/>
            <a:ext cx="8353440" cy="554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71640" y="1687680"/>
            <a:ext cx="734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La rispondenza ai requisiti di accessibilità deve essere interpretata in maniera non limitativa: </a:t>
            </a:r>
            <a:r>
              <a:rPr b="0" lang="it-IT" sz="3200" spc="-1" strike="noStrike">
                <a:solidFill>
                  <a:srgbClr val="ccff33"/>
                </a:solidFill>
                <a:latin typeface="Arial"/>
                <a:ea typeface="Arial"/>
              </a:rPr>
              <a:t>gli autori non devono essere scoraggiati ad usare elementi multimediali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, ma, al contrario, invitati a sfruttarli per assicurare l'accesso alle informazioni a una sempre più vasta platea di utent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Il multimedia nelle linee guida</a:t>
            </a:r>
            <a:br>
              <a:rPr sz="4000"/>
            </a:b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e nella normativ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">
            <a:hlinkClick r:id="rId1"/>
          </p:cNvPr>
          <p:cNvSpPr/>
          <p:nvPr/>
        </p:nvSpPr>
        <p:spPr>
          <a:xfrm>
            <a:off x="250920" y="1628640"/>
            <a:ext cx="8713800" cy="4969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">
            <a:hlinkClick r:id="rId2"/>
          </p:cNvPr>
          <p:cNvSpPr/>
          <p:nvPr/>
        </p:nvSpPr>
        <p:spPr>
          <a:xfrm>
            <a:off x="1187280" y="2133720"/>
            <a:ext cx="69850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aeaea"/>
                </a:solidFill>
                <a:latin typeface="Arial"/>
                <a:ea typeface="Arial"/>
              </a:rPr>
              <a:t>CIRCOLARE FUNZIONE PUBBLICA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Circ. 13 marzo 2001, n. 3/2001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Linee guida per l'organizzazione, l'usabilità e l'accessibilità dei siti web delle pubbliche amministrazion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eaeaea"/>
                </a:solidFill>
                <a:latin typeface="Arial"/>
              </a:rPr>
              <a:t>CIRCOLARE FUNZIONE PUBBLIC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1197000"/>
            <a:ext cx="8713800" cy="52563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71640" y="1773360"/>
            <a:ext cx="72723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eaeaea"/>
                </a:solidFill>
                <a:latin typeface="Arial"/>
                <a:ea typeface="Arial"/>
              </a:rPr>
              <a:t>Componenti multimediali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Corredare le componenti sonore di segnalazioni alternative visive. 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Corredare, possibilmente, i filmati di descrizione testuale delle immagini e di sottotitolazione dei dialogh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50920" y="1557360"/>
            <a:ext cx="8713800" cy="4896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Il multimedia nelle linee guida</a:t>
            </a:r>
            <a:br>
              <a:rPr sz="4000"/>
            </a:b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e nella normativ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43" name="" descr="LOGO WAI"/>
          <p:cNvPicPr/>
          <p:nvPr/>
        </p:nvPicPr>
        <p:blipFill>
          <a:blip r:embed="rId1"/>
          <a:stretch/>
        </p:blipFill>
        <p:spPr>
          <a:xfrm>
            <a:off x="755640" y="1844640"/>
            <a:ext cx="2793960" cy="469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755640" y="2421000"/>
            <a:ext cx="7920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Web Content Accessibility Guidelines 1.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  <a:ea typeface="Arial"/>
              </a:rPr>
              <a:t>W3C Recommendation 5-May-1999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Arial"/>
                <a:ea typeface="Arial"/>
              </a:rPr>
              <a:t>Linee guida per l'accessibilità ai contenuti del We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Arial"/>
                <a:ea typeface="Arial"/>
              </a:rPr>
              <a:t>Raccomandazione del W3C del 5 maggio 199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  <a:ea typeface="Arial"/>
              </a:rPr>
              <a:t>Punti di controllo 1.3 [Priorità 1], 1.4 [Priorità 1], 7.1 [Priorità 1], 8.1 [Priorità 1 se importante, altrimenti Priorità 2], 14.2 [Priorità 3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188640"/>
            <a:ext cx="82263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cecff"/>
                </a:solidFill>
                <a:latin typeface="Arial"/>
              </a:rPr>
              <a:t>Web Content Accessibility</a:t>
            </a:r>
            <a:br>
              <a:rPr sz="3600"/>
            </a:br>
            <a:r>
              <a:rPr b="0" lang="it-IT" sz="3600" spc="-1" strike="noStrike">
                <a:solidFill>
                  <a:srgbClr val="ccecff"/>
                </a:solidFill>
                <a:latin typeface="Arial"/>
              </a:rPr>
              <a:t> Guidelines 1.0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0920" y="1197000"/>
            <a:ext cx="8713800" cy="52563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00000" y="1628640"/>
            <a:ext cx="755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Punto di controllo 1.4 [Priorità 1]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Per ogni presentazione multimediale temporizzata (come un film o un'animazione), sincronizzare alternative equivalenti (per esempio didascalie o descrizioni parlate del filmato) con la presentazione.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50920" y="1557360"/>
            <a:ext cx="8713800" cy="4896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Il multimedia nelle linee guida</a:t>
            </a:r>
            <a:br>
              <a:rPr sz="4000"/>
            </a:b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e nella normativ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0" name="" descr="LOGO WAI"/>
          <p:cNvPicPr/>
          <p:nvPr/>
        </p:nvPicPr>
        <p:blipFill>
          <a:blip r:embed="rId1"/>
          <a:stretch/>
        </p:blipFill>
        <p:spPr>
          <a:xfrm>
            <a:off x="755640" y="1628640"/>
            <a:ext cx="2793960" cy="4701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11280" y="2060640"/>
            <a:ext cx="7920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eaeaea"/>
                </a:solidFill>
                <a:latin typeface="Arial"/>
                <a:ea typeface="Arial"/>
              </a:rPr>
              <a:t>Web Content Accessibility Guidelines 2.0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aeaea"/>
                </a:solidFill>
                <a:latin typeface="Arial"/>
                <a:ea typeface="Arial"/>
              </a:rPr>
              <a:t>W3C </a:t>
            </a:r>
            <a:r>
              <a:rPr b="0" lang="it-IT" sz="4000" spc="-1" strike="noStrike">
                <a:solidFill>
                  <a:srgbClr val="ccff33"/>
                </a:solidFill>
                <a:latin typeface="Arial"/>
                <a:ea typeface="Arial"/>
              </a:rPr>
              <a:t>Working Draft</a:t>
            </a:r>
            <a:r>
              <a:rPr b="0" lang="it-IT" sz="4000" spc="-1" strike="noStrike">
                <a:solidFill>
                  <a:srgbClr val="eaeaea"/>
                </a:solidFill>
                <a:latin typeface="Arial"/>
                <a:ea typeface="Arial"/>
              </a:rPr>
              <a:t> 23 novembre 2005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rebuchet MS"/>
              </a:rPr>
              <a:t>4 Principi (contenuto percepibile, operabile, comprensibile e durevole) e 13 linee guida, ciascuna con tre livelli di verifica di successo</a:t>
            </a:r>
            <a:r>
              <a:rPr b="0" lang="it-IT" sz="20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79280" y="189000"/>
            <a:ext cx="8713800" cy="6480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620640"/>
            <a:ext cx="86421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ff33"/>
                </a:solidFill>
                <a:latin typeface="Trebuchet MS"/>
              </a:rPr>
              <a:t>Linea guida 1.2 </a:t>
            </a:r>
            <a:r>
              <a:rPr b="1" lang="it-IT" sz="2800" spc="-1" strike="noStrike">
                <a:solidFill>
                  <a:srgbClr val="eaeaea"/>
                </a:solidFill>
                <a:latin typeface="Trebuchet MS"/>
              </a:rPr>
              <a:t>Fornire alternative sincronizzate per il multimed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ff33"/>
                </a:solidFill>
                <a:latin typeface="Trebuchet MS"/>
              </a:rPr>
              <a:t>Test di verifica di successo Livello 1 per la Linea Guida 1.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eaeaea"/>
                </a:solidFill>
                <a:latin typeface="Trebuchet MS"/>
              </a:rPr>
              <a:t>Sono disponibili sottotitoli per il multimedia preregistrato.</a:t>
            </a:r>
            <a:r>
              <a:rPr b="0" lang="it-IT" sz="24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eaeaea"/>
                </a:solidFill>
                <a:latin typeface="Trebuchet MS"/>
              </a:rPr>
              <a:t>Sono disponibili decrizioni audio per il multimedia preregistra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ff33"/>
                </a:solidFill>
                <a:latin typeface="Trebuchet MS"/>
              </a:rPr>
              <a:t>Test di verifica di successo Livello 2 per la Linea Guida 1.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eaeaea"/>
                </a:solidFill>
                <a:latin typeface="Trebuchet MS"/>
              </a:rPr>
              <a:t>Sono disponibili sottotitoli per il live multimedi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50920" y="1628640"/>
            <a:ext cx="8713800" cy="482472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ff33"/>
                </a:solidFill>
                <a:latin typeface="Arial"/>
                <a:ea typeface="Arial"/>
              </a:rPr>
              <a:t>Sezione 508 del Rehabilitation A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Trebuchet MS"/>
              </a:rPr>
              <a:t>§ 1194.22 Informazioni e applicazioni </a:t>
            </a:r>
            <a:r>
              <a:rPr b="0" lang="en" sz="2800" spc="-1" strike="noStrike">
                <a:solidFill>
                  <a:srgbClr val="eaeaea"/>
                </a:solidFill>
                <a:latin typeface="Trebuchet MS"/>
              </a:rPr>
              <a:t>Intern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Trebuchet MS"/>
              </a:rPr>
              <a:t>e </a:t>
            </a:r>
            <a:r>
              <a:rPr b="0" lang="en" sz="2800" spc="-1" strike="noStrike">
                <a:solidFill>
                  <a:srgbClr val="eaeaea"/>
                </a:solidFill>
                <a:latin typeface="Trebuchet MS"/>
              </a:rPr>
              <a:t>Intranet</a:t>
            </a:r>
            <a:r>
              <a:rPr b="0" lang="it-IT" sz="2800" spc="-1" strike="noStrike">
                <a:solidFill>
                  <a:srgbClr val="eaeaea"/>
                </a:solidFill>
                <a:latin typeface="Trebuchet MS"/>
              </a:rPr>
              <a:t> sul </a:t>
            </a:r>
            <a:r>
              <a:rPr b="0" lang="en" sz="2800" spc="-1" strike="noStrike">
                <a:solidFill>
                  <a:srgbClr val="eaeaea"/>
                </a:solidFill>
                <a:latin typeface="Trebuchet MS"/>
              </a:rPr>
              <a:t>We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Trebuchet MS"/>
              </a:rPr>
              <a:t>b) Alternative equivalenti per una qualsias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Trebuchet MS"/>
              </a:rPr>
              <a:t>presentazione multimediale dovranno esser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Trebuchet MS"/>
              </a:rPr>
              <a:t>sincronizzate con la presentazione stess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ecff"/>
                </a:solidFill>
                <a:latin typeface="Arial"/>
              </a:rPr>
              <a:t>Il multimedia nelle linee guida</a:t>
            </a:r>
            <a:br>
              <a:rPr sz="4400"/>
            </a:br>
            <a:r>
              <a:rPr b="0" lang="it-IT" sz="4400" spc="-1" strike="noStrike">
                <a:solidFill>
                  <a:srgbClr val="ccecff"/>
                </a:solidFill>
                <a:latin typeface="Arial"/>
              </a:rPr>
              <a:t>e nella norm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4221000"/>
            <a:ext cx="8496360" cy="2448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2f"/>
              </a:gs>
              <a:gs pos="50000">
                <a:srgbClr val="00cc66"/>
              </a:gs>
              <a:gs pos="100000">
                <a:srgbClr val="005e2f"/>
              </a:gs>
            </a:gsLst>
            <a:lin ang="5400000"/>
          </a:gradFill>
          <a:ln w="28440">
            <a:solidFill>
              <a:srgbClr val="eaeaea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Come una navigazione, ma preregistrata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viene meno il controllo dell’interazion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87" name="" descr="schema percorso di navigazione"/>
          <p:cNvPicPr/>
          <p:nvPr/>
        </p:nvPicPr>
        <p:blipFill>
          <a:blip r:embed="rId1"/>
          <a:stretch/>
        </p:blipFill>
        <p:spPr>
          <a:xfrm>
            <a:off x="1547640" y="0"/>
            <a:ext cx="6120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50920" y="333360"/>
            <a:ext cx="8713800" cy="48243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55640" y="438120"/>
            <a:ext cx="78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ff33"/>
                </a:solidFill>
                <a:latin typeface="Arial"/>
                <a:ea typeface="Arial"/>
              </a:rPr>
              <a:t>User Agent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 Accessibility Guidelines 1.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W3C Recommendation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  <a:ea typeface="Arial"/>
              </a:rPr>
              <a:t>17 December 2002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ff33"/>
                </a:solidFill>
                <a:latin typeface="Arial"/>
                <a:ea typeface="Arial"/>
              </a:rPr>
              <a:t>Linee guida per l'accessibilità </a:t>
            </a:r>
            <a:br>
              <a:rPr sz="2800"/>
            </a:br>
            <a:r>
              <a:rPr b="0" lang="it-IT" sz="2800" spc="-1" strike="noStrike">
                <a:solidFill>
                  <a:srgbClr val="ccff33"/>
                </a:solidFill>
                <a:latin typeface="Arial"/>
                <a:ea typeface="Arial"/>
              </a:rPr>
              <a:t>dei programmi u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  <a:ea typeface="Arial"/>
              </a:rPr>
              <a:t>L'utente deve poter definire una serie di preferenze per accedere al contenuto e interagire con i componenti multimediali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90" name="" descr="LOGO WAI"/>
          <p:cNvPicPr/>
          <p:nvPr/>
        </p:nvPicPr>
        <p:blipFill>
          <a:blip r:embed="rId1"/>
          <a:stretch/>
        </p:blipFill>
        <p:spPr>
          <a:xfrm>
            <a:off x="324000" y="1590840"/>
            <a:ext cx="2793960" cy="469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0" y="5869080"/>
            <a:ext cx="918036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5400" y="44280"/>
            <a:ext cx="82263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Modalità di implementazi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-684360" y="692280"/>
            <a:ext cx="10369800" cy="597672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lin ang="5400000"/>
          </a:gradFill>
          <a:ln w="28440">
            <a:solidFill>
              <a:srgbClr val="eaeaea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Vi sono due modalità principali di fornir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contenuti equivalenti per il multimedia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ff33"/>
                </a:solidFill>
                <a:latin typeface="Arial"/>
              </a:rPr>
              <a:t>trascrizioni testuali</a:t>
            </a:r>
            <a:r>
              <a:rPr b="1" lang="it-IT" sz="32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200"/>
            </a:br>
            <a:r>
              <a:rPr b="1" lang="it-IT" sz="3200" spc="-1" strike="noStrike">
                <a:solidFill>
                  <a:srgbClr val="eaeaea"/>
                </a:solidFill>
                <a:latin typeface="Arial"/>
              </a:rPr>
              <a:t>(SOTTOTITOLI)</a:t>
            </a:r>
            <a:br>
              <a:rPr sz="3200"/>
            </a:br>
            <a:r>
              <a:rPr b="1" lang="it-IT" sz="3200" spc="-1" strike="noStrike">
                <a:solidFill>
                  <a:srgbClr val="eaeaea"/>
                </a:solidFill>
                <a:latin typeface="Arial"/>
              </a:rPr>
              <a:t>dei dialoghi e dei contenuti audio </a:t>
            </a:r>
            <a:br>
              <a:rPr sz="3200"/>
            </a:br>
            <a:r>
              <a:rPr b="1" lang="it-IT" sz="3200" spc="-1" strike="noStrike">
                <a:solidFill>
                  <a:srgbClr val="eaeaea"/>
                </a:solidFill>
                <a:latin typeface="Arial"/>
              </a:rPr>
              <a:t>per utenti non udent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ff33"/>
                </a:solidFill>
                <a:latin typeface="Arial"/>
              </a:rPr>
              <a:t>descrizioni audio</a:t>
            </a:r>
            <a:br>
              <a:rPr sz="3200"/>
            </a:br>
            <a:r>
              <a:rPr b="1" lang="it-IT" sz="3200" spc="-1" strike="noStrike">
                <a:solidFill>
                  <a:srgbClr val="eaeaea"/>
                </a:solidFill>
                <a:latin typeface="Arial"/>
              </a:rPr>
              <a:t>dei contenuti video per utenti non vedenti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aeaea"/>
                </a:solidFill>
                <a:latin typeface="Arial"/>
              </a:rPr>
              <a:t>Descrizione au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9280" y="1758960"/>
            <a:ext cx="878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Per la descrizione audio, destinata agli </a:t>
            </a:r>
            <a:r>
              <a:rPr b="0" lang="it-IT" sz="3200" spc="-1" strike="noStrike">
                <a:solidFill>
                  <a:srgbClr val="ccff33"/>
                </a:solidFill>
                <a:latin typeface="Arial"/>
                <a:ea typeface="Arial"/>
              </a:rPr>
              <a:t>utenti non vedenti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, è necessario che il testo descriva la scena in cui si svolge l'azione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in modo da descrivere l'ambiente in cui si svolge l'azione e fornire quegli elementi che non fanno parte del dialogo (esattamente come avviene ad esempio nelle </a:t>
            </a:r>
            <a:r>
              <a:rPr b="1" lang="it-IT" sz="3200" spc="-1" strike="noStrike">
                <a:solidFill>
                  <a:srgbClr val="ccff33"/>
                </a:solidFill>
                <a:latin typeface="Arial"/>
                <a:ea typeface="Arial"/>
              </a:rPr>
              <a:t>didascalie dei testi teatrali</a:t>
            </a:r>
            <a:r>
              <a:rPr b="0" lang="it-IT" sz="3200" spc="-1" strike="noStrike">
                <a:solidFill>
                  <a:srgbClr val="eaeaea"/>
                </a:solidFill>
                <a:latin typeface="Arial"/>
                <a:ea typeface="Arial"/>
              </a:rPr>
              <a:t>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2636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Per essere considerato accessibile, un componente multimediale deve essere sincronizzato ed equivalente (nella sua parte testuale), inoltre il testo equivalente deve essere accessibile alle TA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0800000">
            <a:off x="1547280" y="1051920"/>
            <a:ext cx="575964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ccecff"/>
              </a:gs>
              <a:gs pos="100000">
                <a:srgbClr val="edf7fe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9280" y="3284640"/>
            <a:ext cx="8785440" cy="3384360"/>
          </a:xfrm>
          <a:prstGeom prst="roundRect">
            <a:avLst>
              <a:gd name="adj" fmla="val 50000"/>
            </a:avLst>
          </a:prstGeom>
          <a:solidFill>
            <a:srgbClr val="54547a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65b2ff"/>
                </a:solidFill>
                <a:uFillTx/>
                <a:latin typeface="Arial"/>
                <a:ea typeface="Arial"/>
                <a:hlinkClick r:id="rId1"/>
              </a:rPr>
              <a:t>Decreto Ministeriale 8 luglio 2005</a:t>
            </a:r>
            <a:br>
              <a:rPr sz="3200"/>
            </a:br>
            <a:r>
              <a:rPr b="1" lang="it-IT" sz="2000" spc="-1" strike="noStrike">
                <a:solidFill>
                  <a:srgbClr val="eaeaea"/>
                </a:solidFill>
                <a:latin typeface="Arial"/>
                <a:ea typeface="Arial"/>
              </a:rPr>
              <a:t>Requisiti tecnici e i diversi livelli per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  <a:ea typeface="Arial"/>
              </a:rPr>
              <a:t>l'accessibilità agli strumenti informatici.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ff33"/>
                </a:solidFill>
                <a:latin typeface="Arial"/>
                <a:ea typeface="Arial"/>
              </a:rPr>
              <a:t>Allegato 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  <a:ea typeface="Arial"/>
              </a:rPr>
              <a:t>Verifica tecnica e requisiti tecnici di accessibilità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  <a:ea typeface="Arial"/>
              </a:rPr>
              <a:t>delle applicazioni basate su tecnologie intern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-541440" y="549360"/>
            <a:ext cx="10153800" cy="6119640"/>
          </a:xfrm>
          <a:prstGeom prst="roundRect">
            <a:avLst>
              <a:gd name="adj" fmla="val 50000"/>
            </a:avLst>
          </a:prstGeom>
          <a:solidFill>
            <a:srgbClr val="54547a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  <a:ea typeface="Arial"/>
              </a:rPr>
              <a:t>Enunciato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  <a:ea typeface="Arial"/>
              </a:rPr>
              <a:t>Nel caso in cui un filmato o una presentazione multimedial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  <a:ea typeface="Arial"/>
              </a:rPr>
              <a:t>siano indispensabili per la completezza dell’informazion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  <a:ea typeface="Arial"/>
              </a:rPr>
              <a:t>fornita o del servizio erogato, predisporre una alternativa testual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  <a:ea typeface="Arial"/>
              </a:rPr>
              <a:t>equivalente, sincronizzata in forma di sotto-titolazion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  <a:ea typeface="Arial"/>
              </a:rPr>
              <a:t>o di descrizione vocale, oppure fornire un riassunto o una semplic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  <a:ea typeface="Arial"/>
              </a:rPr>
              <a:t>etichetta per ciascun elemento video o multimediale tenendo conto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  <a:ea typeface="Arial"/>
              </a:rPr>
              <a:t>del livello di importanza e delle difficoltà di realizzazion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Arial"/>
                <a:ea typeface="Arial"/>
              </a:rPr>
              <a:t>nel caso di trasmissioni in tempo real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aeaea"/>
                </a:solidFill>
                <a:latin typeface="Arial"/>
                <a:ea typeface="Arial"/>
              </a:rPr>
              <a:t>Riferimenti </a:t>
            </a:r>
            <a:r>
              <a:rPr b="0" lang="it-IT" sz="1800" spc="-1" strike="noStrike" u="sng">
                <a:solidFill>
                  <a:srgbClr val="65b2ff"/>
                </a:solidFill>
                <a:uFillTx/>
                <a:latin typeface="Arial"/>
                <a:ea typeface="Arial"/>
                <a:hlinkClick r:id="rId1"/>
              </a:rPr>
              <a:t>WCAG 1.0: 1.3, 1.4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aeaea"/>
                </a:solidFill>
                <a:latin typeface="Arial"/>
                <a:ea typeface="Arial"/>
              </a:rPr>
              <a:t>Riferimenti Sec. </a:t>
            </a:r>
            <a:r>
              <a:rPr b="0" lang="it-IT" sz="1800" spc="-1" strike="noStrike" u="sng">
                <a:solidFill>
                  <a:srgbClr val="65b2ff"/>
                </a:solidFill>
                <a:uFillTx/>
                <a:latin typeface="Arial"/>
                <a:ea typeface="Arial"/>
                <a:hlinkClick r:id="rId2"/>
              </a:rPr>
              <a:t>508: 1194.22 (b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eaeaea"/>
                </a:solidFill>
                <a:latin typeface="Arial"/>
              </a:rPr>
              <a:t>Requisito n. 18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Decreto per le opere multimediali</a:t>
            </a:r>
            <a:r>
              <a:rPr b="0" lang="it-IT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9280" y="1182600"/>
            <a:ext cx="878544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eaeaea"/>
                </a:solidFill>
                <a:latin typeface="Arial"/>
                <a:ea typeface="Arial"/>
              </a:rPr>
              <a:t>Legge 4/2004, Art. 7 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eaeaea"/>
                </a:solidFill>
                <a:latin typeface="Arial"/>
                <a:ea typeface="Arial"/>
              </a:rPr>
              <a:t>La Presidenza del Consiglio dei ministri - Dipartimento per l'innovazione e le tecnologie, anche avvalendosi del Centro nazionale per l'informatica nella pubblica amministrazione [...]: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eaeaea"/>
                </a:solidFill>
                <a:latin typeface="Arial"/>
                <a:ea typeface="Arial"/>
              </a:rPr>
              <a:t>[...]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eaeaea"/>
                </a:solidFill>
                <a:latin typeface="Arial"/>
                <a:ea typeface="Arial"/>
              </a:rPr>
              <a:t>g) promuove, di concerto con i Ministeri dell'istruzione, dell'università e della ricerca e per i beni e le attività culturali, iniziative per favorire l'accessibilità alle opere multimediali, anche attraverso specifici progetti di ricerca e sperimentazione con il coinvolgimento delle associazioni delle persone disabili; sulla base dei risultati delle sperimentazioni sono indicate, </a:t>
            </a:r>
            <a:r>
              <a:rPr b="1" lang="it-IT" sz="2200" spc="-1" strike="noStrike">
                <a:solidFill>
                  <a:srgbClr val="ccff33"/>
                </a:solidFill>
                <a:latin typeface="Arial"/>
                <a:ea typeface="Arial"/>
              </a:rPr>
              <a:t>con decreto emanato di intesa dai Ministri interessati, le regole tecniche per l'accessibilità alle opere multimediali</a:t>
            </a:r>
            <a:r>
              <a:rPr b="0" lang="it-IT" sz="2200" spc="-1" strike="noStrike">
                <a:solidFill>
                  <a:srgbClr val="eaeaea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4:34:16Z</dcterms:created>
  <dc:creator>ROBERTO ELLERO rellero@webaccessibile.org</dc:creator>
  <dc:description>ROMA - Camera dei Deputati - Palazzo Marini - Sala delle Colonne - Via Poli 19
13 dicembre 2005
Accesso Universale all'eContent
"Rete e multimedia: standard, normative ed applicazioni"
Organizzato da ISIMM - IWA - Master in storia e storiografia multimediale di Roma Tre</dc:description>
  <cp:keywords>accessibilità multimedia multimedialità</cp:keywords>
  <dc:language>en-US</dc:language>
  <cp:lastModifiedBy>utente</cp:lastModifiedBy>
  <dcterms:modified xsi:type="dcterms:W3CDTF">2005-12-15T20:47:45Z</dcterms:modified>
  <cp:revision>480</cp:revision>
  <dc:subject>Accesso Universale all'eContent</dc:subject>
  <dc:title>L'accessibilità dei contenuti multimedi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51040</vt:lpwstr>
  </property>
</Properties>
</file>